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2559"/>
        <c:axId val="35494781"/>
      </c:barChart>
      <c:catAx>
        <c:axId val="4682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94781"/>
        <c:crosses val="autoZero"/>
        <c:auto val="1"/>
        <c:lblAlgn val="ctr"/>
        <c:lblOffset val="100"/>
        <c:noMultiLvlLbl val="0"/>
      </c:catAx>
      <c:valAx>
        <c:axId val="35494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CBA-939D-4A1B-9673-FF83BAC3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79C-1AD8-4EBF-A280-76C1D0C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E02-CC4D-4541-BAFA-80C500BD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3E5-5546-481F-9BDC-C954DD19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C8F-B7D1-4B58-A15A-436D0AB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282-DC7A-4F1D-9F6B-42375D20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77C-6A78-481C-BF5F-6C9F82A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082-3E8A-4F14-97E1-D798C75C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F32-6177-4AC5-BB04-BCC015A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1E5-7EF6-4448-8FCA-7D659F5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ADB-CD46-4827-968D-D8FE04D1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340-F433-42F7-A6F1-533E229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8103D-5C4F-467D-A148-D87ADA3BC0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