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63696"/>
        <c:axId val="96221327"/>
      </c:barChart>
      <c:catAx>
        <c:axId val="71463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21327"/>
        <c:crosses val="autoZero"/>
        <c:auto val="1"/>
        <c:lblAlgn val="ctr"/>
        <c:lblOffset val="100"/>
        <c:noMultiLvlLbl val="0"/>
      </c:catAx>
      <c:valAx>
        <c:axId val="96221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63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338-CF09-4CAF-91FB-7E43AC87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D33-D36F-40D2-AA5C-0D44EF5F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02F-6D69-4652-97DB-B956629A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6DAD-A0FD-4C29-B2AD-1A2A64E3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783A-EC39-4E55-A307-E40F87F7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FB8-6C58-4C8E-B623-EA372202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6C4-0BD7-4D49-BF1E-40394901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A62-6699-4667-86EE-33B858F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187-EAC2-4E66-B518-34DBDA06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821-9003-4E7A-8F0F-47942BF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0EE-B768-43BF-A8E3-F1D56FBB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D4A-F9E2-4EBD-866F-249BB5A3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FA990-4D4A-446A-BD29-EDE3404723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