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34917"/>
        <c:axId val="17686759"/>
      </c:barChart>
      <c:catAx>
        <c:axId val="35834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6759"/>
        <c:crosses val="autoZero"/>
        <c:auto val="1"/>
        <c:lblAlgn val="ctr"/>
        <c:lblOffset val="100"/>
        <c:noMultiLvlLbl val="0"/>
      </c:catAx>
      <c:valAx>
        <c:axId val="1768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34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98D-219C-4266-9746-CA26117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A04-9C92-4488-8846-4D52E58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43C-89D4-4AC6-B11E-CEDB65BF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5F-5F3E-496C-8C73-2C3CC812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FC5-9EFB-450D-8D75-39343F5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262-0E3D-4AC9-A316-88A621E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4B4-7345-4E79-B1BC-8A5FB70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50B-B5BB-4FCE-A11E-875DD93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F2E-9255-4207-A102-3522F14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D18-44A6-45C8-95EF-3D4D6C6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47A-F353-4712-A312-5D507DA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5DE-6AB4-41F7-8235-75BB58A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6B8D8-12B8-4A99-A316-8BCA44EDFB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