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88597"/>
        <c:axId val="55460961"/>
      </c:barChart>
      <c:catAx>
        <c:axId val="17388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0961"/>
        <c:crosses val="autoZero"/>
        <c:auto val="1"/>
        <c:lblAlgn val="ctr"/>
        <c:lblOffset val="100"/>
        <c:noMultiLvlLbl val="0"/>
      </c:catAx>
      <c:valAx>
        <c:axId val="55460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8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110-B943-4A94-81D6-785AE66B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AB5-7473-4004-8950-DFF5E0C4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296-CF12-4F46-B386-36D55850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48E-3234-42CF-BFF4-F9F73490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8F5-E47A-4D6F-91B0-1B2AFA65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1B4-C0DB-4F79-937D-410C2E44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504-DA7B-4B33-9181-E95869A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4A0-8013-4AF6-B564-53B0F578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9FD-FE07-4B67-B533-B83971E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845-4C47-4098-8CD6-EEEE4D4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B65-9221-4BB9-B393-EA13526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E7F-069B-4ED2-8266-8AFC840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70D41-F974-4A24-9A1D-D0EF90370A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