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AB04-8CBD-4D05-B43C-645DDFD3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E981-7296-40BE-8956-7F388C46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198-AECD-4C74-9E51-0963C2C8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69D-B561-4CB5-B46B-605BA061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CA46-1D99-4412-9E18-E045A753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3C4-D894-4458-9E01-59DC1E5D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24F-C571-4E93-996A-37A09F02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841-74DF-4005-A3E9-D10588B6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708F-3E13-4138-90F2-71CEA940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044-ADB1-440B-89B7-B8F44B32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1671-FF4C-4C65-BB1D-64A982FD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DFF-A55B-4E1E-BC5E-BFF70114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5807-A04A-4828-B708-7876DAC88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1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5:36Z</dcterms:modified>
  <cp:revision>1</cp:revision>
  <dc:subject>Testing file 1</dc:subject>
  <dc:title>Sample PPT file</dc:title>
</cp:coreProperties>
</file>