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68406"/>
        <c:axId val="23363055"/>
      </c:barChart>
      <c:catAx>
        <c:axId val="679684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63055"/>
        <c:crosses val="autoZero"/>
        <c:auto val="1"/>
        <c:lblAlgn val="ctr"/>
        <c:lblOffset val="100"/>
        <c:noMultiLvlLbl val="0"/>
      </c:catAx>
      <c:valAx>
        <c:axId val="23363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684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CFD-96EF-4781-B5DC-B0193FD2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796-CEE6-4255-8C70-1EA64B4D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5B0-8A51-41A2-9D53-8C4989C4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289-5B1A-4B60-9960-13355DB7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1E6-CC9C-4AF7-B873-E8333AB8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C93-9C01-438D-95E8-DEFDB729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6E98-A65C-42C0-B1A0-251652C1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B81-D892-435A-920D-00B20225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0DFE-F94F-4ABE-9708-40E25F5C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8DC-F57B-4534-A953-75C13FE0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1DC-10FC-48EB-A888-A0C93D2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3E9-E77C-489D-9FEB-5668879C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62AD7-C0E3-4A8E-8433-1AAFF1BF3B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